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1E3DA-C6B8-4616-A566-0D3A1B638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2169-8D13-421F-AA5B-5E30A2AFB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85442-9095-4F16-9A44-7A8AAD7E2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88624-A865-4F42-A59C-A1E7EE732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530BF-CD5E-4528-AF56-BA53FBCC2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785BA-B1FD-4B03-907E-ABB6815D4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8EDB5-C39C-4452-9372-C9EC198DF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29EAC-AE56-4A98-9CBE-6CDCDD947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90719-67A7-4693-91EC-3FD222BBF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72E29-DDBF-4D00-90B6-3673F35D7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570A0-A2FC-401C-8718-9FCC09B86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C4B63-16E4-4433-BDC0-DB123F5C9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056E4-CEF5-4E32-8BB1-914DAAEFD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4A8FD-5FF5-424D-A59A-776B0C6A3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02C23-73FA-4F8C-86A1-DA6E6A27E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DF18-7F83-4376-96FE-355EC8F88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2051-6058-4985-9FF2-56D8CBE53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62D4F-83D1-4942-B474-DCB23084D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C3050-EE18-4A62-B04E-3FB91D22A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36A9F-056A-4367-8097-C674669B6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C6BF7-96F8-4723-BA78-77B614726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FFB7-E082-488C-BD47-ADF8E90CA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7144-3841-4A50-9D21-726987181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946F-BF21-437B-8BF9-39F4AC390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65FB-22DD-4E69-8B49-DCBAB61A7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23E9-EC30-4165-8058-10B12AF5B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A7D3-5BB0-492C-AD64-25628779B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A469-EB6F-44D8-8AC6-F149FB250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F4A6-BF8F-40F9-BA8B-53CE0256B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24B1-A9BD-4E94-9237-2BD03DC80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5EFB-464A-4F8D-8D91-B41A36B3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8BA9-D9AE-4C42-B8EC-29A514F6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8286-EE78-476F-9999-14E47815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1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67616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B4EBC-CA1E-418A-BEA7-341B746F53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5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7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0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7640" y="152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wilberforce signature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370320" y="3459240"/>
            <a:ext cx="2504880" cy="6062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>
            <a:hlinkClick r:id="" action="ppaction://hlinkshowjump?jump=nextslide"/>
          </p:cNvPr>
          <p:cNvSpPr/>
          <p:nvPr/>
        </p:nvSpPr>
        <p:spPr>
          <a:xfrm>
            <a:off x="3360600" y="505476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start quiz</a:t>
            </a:r>
            <a:r>
              <a:rPr b="0" lang="en-US" sz="12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04920" y="38098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66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Religion was very important to William. He wrote a book about religion t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Wilberforce Family Bible2"/>
          <p:cNvPicPr/>
          <p:nvPr/>
        </p:nvPicPr>
        <p:blipFill>
          <a:blip r:embed="rId1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6477120" y="6235560"/>
            <a:ext cx="2514600" cy="45972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66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3000" fill="hold"/>
                                        <p:tgtEl>
                                          <p:spTgt spid="9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-82872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Wilberforce Family Bible2"/>
          <p:cNvPicPr/>
          <p:nvPr/>
        </p:nvPicPr>
        <p:blipFill>
          <a:blip r:embed="rId1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304920" y="38098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66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He did like reading, but there is something else this book can tell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6781680" y="6235560"/>
            <a:ext cx="2210040" cy="45972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66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10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304920" y="3986280"/>
            <a:ext cx="8515080" cy="52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b2a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a9"/>
                </a:solidFill>
                <a:latin typeface="Arial"/>
              </a:rPr>
              <a:t>A campaign is when people talk about some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270000" y="4952880"/>
            <a:ext cx="8550000" cy="947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a9"/>
                </a:solidFill>
                <a:latin typeface="Arial"/>
              </a:rPr>
              <a:t>b) A campaign is when people work together to try and achieve some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a9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a9"/>
                </a:solidFill>
                <a:latin typeface="Arial"/>
              </a:rPr>
              <a:t>Wilberforce was the leader of a very important campaig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6629400" y="6238800"/>
            <a:ext cx="2362320" cy="459720"/>
          </a:xfrm>
          <a:prstGeom prst="rect">
            <a:avLst/>
          </a:prstGeom>
          <a:noFill/>
          <a:ln w="28440">
            <a:solidFill>
              <a:srgbClr val="00b2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a9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3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a9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a9"/>
                </a:solidFill>
                <a:latin typeface="Arial"/>
              </a:rPr>
              <a:t>Talking is important but a campaign is more than th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6629400" y="6235560"/>
            <a:ext cx="2362320" cy="459720"/>
          </a:xfrm>
          <a:prstGeom prst="rect">
            <a:avLst/>
          </a:prstGeom>
          <a:noFill/>
          <a:ln w="28440">
            <a:solidFill>
              <a:srgbClr val="00b2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2a9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3000" fill="hold"/>
                                        <p:tgtEl>
                                          <p:spTgt spid="11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04920" y="3886200"/>
            <a:ext cx="8458200" cy="106884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campaigned to stop people being cruel to anim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04920" y="5257800"/>
            <a:ext cx="845820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b) William campaigned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1"/>
          <a:srcRect l="17100" t="10951" r="17619" b="0"/>
          <a:stretch/>
        </p:blipFill>
        <p:spPr>
          <a:xfrm>
            <a:off x="5334120" y="304920"/>
            <a:ext cx="3504960" cy="3394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4"/>
          <p:cNvSpPr/>
          <p:nvPr/>
        </p:nvSpPr>
        <p:spPr>
          <a:xfrm>
            <a:off x="-828720" y="647856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304920" y="3429000"/>
            <a:ext cx="8610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led the campaign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rcRect l="17079" t="10912" r="17632" b="0"/>
          <a:stretch/>
        </p:blipFill>
        <p:spPr>
          <a:xfrm>
            <a:off x="5332320" y="303120"/>
            <a:ext cx="3506760" cy="33958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6629400" y="6248520"/>
            <a:ext cx="2362320" cy="459720"/>
          </a:xfrm>
          <a:prstGeom prst="rect">
            <a:avLst/>
          </a:prstGeom>
          <a:noFill/>
          <a:ln w="284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" dur="3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04920" y="3429000"/>
            <a:ext cx="85341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did campaign to stop people being cruel to animals, but that is not the main thing he wanted to 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rcRect l="17079" t="10912" r="17632" b="0"/>
          <a:stretch/>
        </p:blipFill>
        <p:spPr>
          <a:xfrm>
            <a:off x="5332320" y="303120"/>
            <a:ext cx="3506760" cy="33958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284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80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3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304920" y="4665600"/>
            <a:ext cx="838188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80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ecause he was born in Hul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270000" y="5504040"/>
            <a:ext cx="841680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) Because he helped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304920" y="3733920"/>
            <a:ext cx="82296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e remember William Wilberforce because he led a long campaign which made slavery s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">
            <a:hlinkClick r:id="rId1" action="ppaction://hlinksldjump"/>
          </p:cNvPr>
          <p:cNvSpPr/>
          <p:nvPr/>
        </p:nvSpPr>
        <p:spPr>
          <a:xfrm>
            <a:off x="0" y="0"/>
            <a:ext cx="8991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57240">
            <a:solidFill>
              <a:srgbClr val="00b2a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forget, always click inside the answer box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wilberforce signature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3352680" y="4038480"/>
            <a:ext cx="2505240" cy="606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>
            <a:hlinkClick r:id="" action="ppaction://hlinkshowjump?jump=nextslide"/>
          </p:cNvPr>
          <p:cNvSpPr/>
          <p:nvPr/>
        </p:nvSpPr>
        <p:spPr>
          <a:xfrm>
            <a:off x="3352680" y="472428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start quiz</a:t>
            </a:r>
            <a:r>
              <a:rPr b="0" lang="en-US" sz="12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3"/>
          <a:stretch/>
        </p:blipFill>
        <p:spPr>
          <a:xfrm rot="1847400">
            <a:off x="1050480" y="2792520"/>
            <a:ext cx="1536840" cy="2376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-828720" y="65260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Wilberforce was born in Hull but that is not the main reason we remember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3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4"/>
          <p:cNvSpPr/>
          <p:nvPr/>
        </p:nvSpPr>
        <p:spPr>
          <a:xfrm>
            <a:off x="-82872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>
            <a:hlinkClick r:id="rId2" action="ppaction://hlinksldjump"/>
          </p:cNvPr>
          <p:cNvSpPr/>
          <p:nvPr/>
        </p:nvSpPr>
        <p:spPr>
          <a:xfrm>
            <a:off x="685800" y="5181480"/>
            <a:ext cx="762012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b) Because he was born in Hu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>
            <a:hlinkClick r:id="rId3" action="ppaction://hlinksldjump"/>
          </p:cNvPr>
          <p:cNvSpPr/>
          <p:nvPr/>
        </p:nvSpPr>
        <p:spPr>
          <a:xfrm>
            <a:off x="685800" y="4191120"/>
            <a:ext cx="762012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a) Because he was born in this hou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4"/>
          <p:cNvSpPr/>
          <p:nvPr/>
        </p:nvSpPr>
        <p:spPr>
          <a:xfrm>
            <a:off x="-900000" y="65041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609480" y="3962520"/>
            <a:ext cx="807732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80"/>
                </a:solidFill>
                <a:latin typeface="Arial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80"/>
                </a:solidFill>
                <a:latin typeface="Arial"/>
              </a:rPr>
              <a:t>He was born here over 200 years ago. He lived here until he was nine years o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>
            <a:hlinkClick r:id="rId2" action="ppaction://hlinksldjump"/>
          </p:cNvPr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3000" fill="hold"/>
                                        <p:tgtEl>
                                          <p:spTgt spid="6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4"/>
          <p:cNvSpPr/>
          <p:nvPr/>
        </p:nvSpPr>
        <p:spPr>
          <a:xfrm>
            <a:off x="-828720" y="64897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609480" y="3962520"/>
            <a:ext cx="8077320" cy="16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80"/>
                </a:solidFill>
                <a:latin typeface="Arial"/>
              </a:rPr>
              <a:t>Sor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80"/>
                </a:solidFill>
                <a:latin typeface="Arial"/>
              </a:rPr>
              <a:t>He was born in Hull but there is another reaso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>
            <a:hlinkClick r:id="rId2" action="ppaction://hlinksldjump"/>
          </p:cNvPr>
          <p:cNvSpPr/>
          <p:nvPr/>
        </p:nvSpPr>
        <p:spPr>
          <a:xfrm>
            <a:off x="6781680" y="6248520"/>
            <a:ext cx="2210040" cy="45972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>
            <a:hlinkClick r:id="rId1" action="ppaction://hlinksldjump"/>
          </p:cNvPr>
          <p:cNvSpPr/>
          <p:nvPr/>
        </p:nvSpPr>
        <p:spPr>
          <a:xfrm>
            <a:off x="304920" y="4525920"/>
            <a:ext cx="845820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80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ecause he was good at giving speech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>
            <a:hlinkClick r:id="rId2" action="ppaction://hlinksldjump"/>
          </p:cNvPr>
          <p:cNvSpPr/>
          <p:nvPr/>
        </p:nvSpPr>
        <p:spPr>
          <a:xfrm>
            <a:off x="345960" y="5334120"/>
            <a:ext cx="841716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) Because he wanted to help peo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ww1"/>
          <p:cNvPicPr/>
          <p:nvPr/>
        </p:nvPicPr>
        <p:blipFill>
          <a:blip r:embed="rId3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533520" y="40384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thought he could help lots of people if he was a Member of Parlia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ww1"/>
          <p:cNvPicPr/>
          <p:nvPr/>
        </p:nvPicPr>
        <p:blipFill>
          <a:blip r:embed="rId1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8">
            <a:hlinkClick r:id="rId2" action="ppaction://hlinksldjump"/>
          </p:cNvPr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3000" fill="hold"/>
                                        <p:tgtEl>
                                          <p:spTgt spid="8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533520" y="40384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was very good at giving speeches, but that is not the rea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ww1"/>
          <p:cNvPicPr/>
          <p:nvPr/>
        </p:nvPicPr>
        <p:blipFill>
          <a:blip r:embed="rId1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>
            <a:hlinkClick r:id="rId2" action="ppaction://hlinksldjump"/>
          </p:cNvPr>
          <p:cNvSpPr/>
          <p:nvPr/>
        </p:nvSpPr>
        <p:spPr>
          <a:xfrm>
            <a:off x="6781680" y="6235560"/>
            <a:ext cx="2210040" cy="45972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8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>
            <a:hlinkClick r:id="rId1" action="ppaction://hlinksldjump"/>
          </p:cNvPr>
          <p:cNvSpPr/>
          <p:nvPr/>
        </p:nvSpPr>
        <p:spPr>
          <a:xfrm>
            <a:off x="304920" y="4525920"/>
            <a:ext cx="8229600" cy="58140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66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It tells us he liked re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>
            <a:hlinkClick r:id="rId2" action="ppaction://hlinksldjump"/>
          </p:cNvPr>
          <p:cNvSpPr/>
          <p:nvPr/>
        </p:nvSpPr>
        <p:spPr>
          <a:xfrm>
            <a:off x="270000" y="5450040"/>
            <a:ext cx="8264520" cy="58140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b) It tells us </a:t>
            </a:r>
            <a:r>
              <a:rPr b="0" lang="en-US" sz="3200" spc="-1" strike="noStrike">
                <a:solidFill>
                  <a:srgbClr val="ff6666"/>
                </a:solidFill>
                <a:latin typeface="ヒラギノ角ゴ Pro W3"/>
              </a:rPr>
              <a:t>r</a:t>
            </a: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eligion was important to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Wilberforce Family Bible2"/>
          <p:cNvPicPr/>
          <p:nvPr/>
        </p:nvPicPr>
        <p:blipFill>
          <a:blip r:embed="rId3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0T20:10:33Z</dcterms:created>
  <dc:creator>Nick Cass</dc:creator>
  <dc:description/>
  <dc:language>en-US</dc:language>
  <cp:lastModifiedBy>Bartley, Izzy</cp:lastModifiedBy>
  <dcterms:modified xsi:type="dcterms:W3CDTF">2018-03-28T10:14:20Z</dcterms:modified>
  <cp:revision>22</cp:revision>
  <dc:subject/>
  <dc:title>Why Do We Remember William Wilberforce?</dc:title>
</cp:coreProperties>
</file>